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gif" ContentType="image/gi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86591-48BD-4337-82B5-6F99685E5E3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2AB99-C43A-43C8-9F01-1C696F687DB0}" type="slidenum">
              <a:rPr b="0" lang="ru-RU" sz="12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A4B8-D9F8-49C9-B876-4C969925FE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B62B-C827-461F-A95B-E6CE26A3D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2D02-BA9A-4DE0-A128-80612C9EE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99FCA-925B-49A8-829D-C15241745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020-048D-42BC-8D0B-55C4B2AE2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588A-B45E-49AF-9DEE-83EA44EC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62F-6117-4EB4-98EA-8F47B06F4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45B-B8DC-4889-A2B9-D2DCBE3F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4485-8497-4F0C-9757-AC517FC4C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AE36-BA00-4DF2-8F0B-E2CEC934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3444-F288-49C6-A78B-F721C5B6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7441-8234-4EE9-9EF3-9DC8F1D4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8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B7BC-3DC3-49AD-9AE4-FCBB3385A327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c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A6BA4-EEEA-480E-AEC7-DF287542D0D1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28400" y="4500360"/>
            <a:ext cx="8715240" cy="218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800000"/>
                </a:solidFill>
                <a:latin typeface="Arial Black"/>
              </a:rPr>
              <a:t>Трагедия власти и трагедия совести в драме А.С.Пушкина «Борис Годунов»  сквозь призму истории.</a:t>
            </a:r>
            <a:br>
              <a:rPr sz="3200"/>
            </a:br>
            <a:r>
              <a:rPr b="0" lang="ru-RU" sz="1600" spc="-1" strike="noStrike">
                <a:solidFill>
                  <a:srgbClr val="800000"/>
                </a:solidFill>
                <a:latin typeface="Arial Black"/>
              </a:rPr>
              <a:t>Презентация к уроку. 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Arial Black"/>
              </a:rPr>
              <a:t>Авторы: Елина М. А., учитель русского языка и литературы</a:t>
            </a:r>
            <a:br>
              <a:rPr sz="1600"/>
            </a:br>
            <a:r>
              <a:rPr b="0" lang="ru-RU" sz="1600" spc="-1" strike="noStrike">
                <a:solidFill>
                  <a:srgbClr val="800000"/>
                </a:solidFill>
                <a:latin typeface="Arial Black"/>
              </a:rPr>
              <a:t>Чугунова Е.А., учитель истории и обществознания</a:t>
            </a:r>
            <a:br>
              <a:rPr sz="1600"/>
            </a:br>
            <a:r>
              <a:rPr b="1" lang="ru-RU" sz="1600" spc="-1" strike="noStrike">
                <a:solidFill>
                  <a:srgbClr val="800000"/>
                </a:solidFill>
                <a:latin typeface="Arial Black"/>
              </a:rPr>
              <a:t>МАОУ СОШ №36 г. Владимир</a:t>
            </a:r>
            <a:br>
              <a:rPr sz="1600"/>
            </a:br>
            <a:br>
              <a:rPr sz="3200"/>
            </a:br>
            <a:endParaRPr b="0" lang="en-US" sz="1600" spc="-1" strike="noStrike">
              <a:solidFill>
                <a:srgbClr val="800000"/>
              </a:solidFill>
              <a:latin typeface="Calibri"/>
            </a:endParaRPr>
          </a:p>
        </p:txBody>
      </p:sp>
      <p:pic>
        <p:nvPicPr>
          <p:cNvPr id="49" name="Picture 2" descr="H:\Documents and Settings\Aida\Рабочий стол\клипарты рамки фончики\kniga39.gif"/>
          <p:cNvPicPr/>
          <p:nvPr/>
        </p:nvPicPr>
        <p:blipFill>
          <a:blip r:embed="rId1"/>
          <a:stretch/>
        </p:blipFill>
        <p:spPr>
          <a:xfrm>
            <a:off x="2881440" y="642960"/>
            <a:ext cx="35719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2714760" y="1071720"/>
            <a:ext cx="6186240" cy="376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Чем вызван интерес Пушкина к истории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Какова доля художественного вымысла в ней у Пушкина? 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7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Calibri"/>
              </a:rPr>
              <a:t>Чему учит читателей без назидания?</a:t>
            </a:r>
            <a:endParaRPr b="0" lang="en-US" sz="32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0000"/>
              </a:solidFill>
              <a:latin typeface="Calibri"/>
            </a:endParaRPr>
          </a:p>
          <a:p>
            <a:pPr marL="274320" indent="-27432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00"/>
                </a:solidFill>
                <a:latin typeface="Calibri"/>
              </a:rPr>
              <a:t>видео</a:t>
            </a:r>
            <a:endParaRPr b="0" lang="en-US" sz="1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1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27EAA-66DC-4E10-BF0D-905EF8C155E2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2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2F7D-618D-45BB-A129-AACEAD293E29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3" name="Picture 2" descr="Portrait of Alexander Pushkin (Orest Kiprensky, 1827).PNG"/>
          <p:cNvPicPr/>
          <p:nvPr/>
        </p:nvPicPr>
        <p:blipFill>
          <a:blip r:embed="rId1"/>
          <a:stretch/>
        </p:blipFill>
        <p:spPr>
          <a:xfrm>
            <a:off x="285840" y="2000160"/>
            <a:ext cx="238104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953735"/>
                </a:solidFill>
                <a:latin typeface="Calibri"/>
              </a:rPr>
              <a:t>Борис Годунов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55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FBD87-E058-4BDA-89A8-246FEBE1126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AD6BA-F313-4BC4-8232-E658486526F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57" name="Picture 2" descr="http://www.rulex.ru/portret/31-027.jpg"/>
          <p:cNvPicPr/>
          <p:nvPr/>
        </p:nvPicPr>
        <p:blipFill>
          <a:blip r:embed="rId1"/>
          <a:stretch/>
        </p:blipFill>
        <p:spPr>
          <a:xfrm>
            <a:off x="2928960" y="1571760"/>
            <a:ext cx="2857320" cy="37242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1"/>
          <p:cNvSpPr/>
          <p:nvPr/>
        </p:nvSpPr>
        <p:spPr>
          <a:xfrm>
            <a:off x="289800" y="105480"/>
            <a:ext cx="856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Arial Unicode MS"/>
              </a:rPr>
              <a:t>Борис еще поморщится немного, Что пьяница пред чаркою вина, И наконец по милости своей Принять венец смиренно согласится;</a:t>
            </a:r>
            <a:r>
              <a:rPr b="0" lang="ru-RU" sz="9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9" name="Rectangle 2"/>
          <p:cNvSpPr/>
          <p:nvPr/>
        </p:nvSpPr>
        <p:spPr>
          <a:xfrm>
            <a:off x="289800" y="105480"/>
            <a:ext cx="856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Arial Unicode MS"/>
              </a:rPr>
              <a:t>Борис еще поморщится немного, Что пьяница пред чаркою вина, И наконец по милости своей Принять венец смиренно согласится;</a:t>
            </a:r>
            <a:r>
              <a:rPr b="0" lang="ru-RU" sz="9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289800" y="105480"/>
            <a:ext cx="856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Arial Unicode MS"/>
              </a:rPr>
              <a:t>Борис еще поморщится немного, Что пьяница пред чаркою вина, И наконец по милости своей Принять венец смиренно согласится;</a:t>
            </a:r>
            <a:r>
              <a:rPr b="0" lang="ru-RU" sz="9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289800" y="105480"/>
            <a:ext cx="856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Arial Unicode MS"/>
              </a:rPr>
              <a:t>Борис еще поморщится немного, Что пьяница пред чаркою вина, И наконец по милости своей Принять венец смиренно согласится;</a:t>
            </a:r>
            <a:r>
              <a:rPr b="0" lang="ru-RU" sz="9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0" y="1511640"/>
            <a:ext cx="27860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Times New Roman"/>
              </a:rPr>
              <a:t>Борис еще поморщится немного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Times New Roman"/>
              </a:rPr>
              <a:t>Что пьяница пред чаркою вина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Times New Roman"/>
              </a:rPr>
              <a:t>И наконец по милости своей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Times New Roman"/>
              </a:rPr>
              <a:t>Принять венец смиренно согласится;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tabLst>
                <a:tab algn="l" pos="0"/>
                <a:tab algn="l" pos="581040"/>
                <a:tab algn="l" pos="1163520"/>
                <a:tab algn="l" pos="1744560"/>
                <a:tab algn="l" pos="2327400"/>
                <a:tab algn="l" pos="2908440"/>
                <a:tab algn="l" pos="3489480"/>
                <a:tab algn="l" pos="4071960"/>
                <a:tab algn="l" pos="4653000"/>
                <a:tab algn="l" pos="5235480"/>
                <a:tab algn="l" pos="5816520"/>
                <a:tab algn="l" pos="6397560"/>
                <a:tab algn="l" pos="6980400"/>
                <a:tab algn="l" pos="7561440"/>
                <a:tab algn="l" pos="8143920"/>
                <a:tab algn="l" pos="8724960"/>
                <a:tab algn="l" pos="9306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Arial"/>
                <a:ea typeface="Times New Roman"/>
              </a:rPr>
              <a:t>А.С. Пушкин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3" name="Прямоугольник 11"/>
          <p:cNvSpPr/>
          <p:nvPr/>
        </p:nvSpPr>
        <p:spPr>
          <a:xfrm>
            <a:off x="6072120" y="2857680"/>
            <a:ext cx="2857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Борис не имел только ... добродетели; хотел, умел благотворить, но единственно из любви ко славе и власти, видел в добродетели не цель, а средство к достижению цели; если бы родился на престоле, то заслужил бы имя одного из лучших венценосцев в мире;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53735"/>
                </a:solidFill>
                <a:latin typeface="Times New Roman"/>
                <a:ea typeface="Times New Roman"/>
              </a:rPr>
              <a:t>Н.М. Карамзин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Лжедмитрий </a:t>
            </a:r>
            <a:r>
              <a:rPr b="1" lang="en-US" sz="4400" spc="-1" strike="noStrike">
                <a:solidFill>
                  <a:srgbClr val="800000"/>
                </a:solidFill>
                <a:latin typeface="Calibri"/>
              </a:rPr>
              <a:t>I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65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FDC35-457C-4C5E-B56C-A279BF517C28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2EDDA-DA0D-453D-87A8-08353081D5FD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67" name="Picture 2" descr="http://www.bankgorodov.ru/photo_f/1335929273_m.jpg"/>
          <p:cNvPicPr/>
          <p:nvPr/>
        </p:nvPicPr>
        <p:blipFill>
          <a:blip r:embed="rId1"/>
          <a:stretch/>
        </p:blipFill>
        <p:spPr>
          <a:xfrm>
            <a:off x="2786040" y="1500120"/>
            <a:ext cx="2995560" cy="297972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5"/>
          <p:cNvSpPr/>
          <p:nvPr/>
        </p:nvSpPr>
        <p:spPr>
          <a:xfrm>
            <a:off x="285840" y="15717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Первым врагом Лжедмитрия был он сам, легкомысленный и вспыльчивый от природы, грубый от худого воспитания - надменный, безрассудный и неосторожный от счастья. 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Calibri"/>
              </a:rPr>
              <a:t>Н. М. Карамзин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5786280" y="1947960"/>
            <a:ext cx="2857680" cy="41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е снилося, что лестница крутая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еня вела на башню; с  высоты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не виделась Москва, что муравейник;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низу народ на площади кипел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на меня указывал со смехом,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стыдно мне и страшно становилось –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, падая стремглав, я пробуждался....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.С. Пушкин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800000"/>
                </a:solidFill>
                <a:latin typeface="Calibri"/>
              </a:rPr>
              <a:t>Василий Шуйский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1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C7664-01DF-42E2-80C0-896DDF1EB619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DC69-B724-432B-91B3-674D39C14C57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73" name="Picture 2" descr="http://www.hrono.ru/img/portrety/shuiski_v.jpg"/>
          <p:cNvPicPr/>
          <p:nvPr/>
        </p:nvPicPr>
        <p:blipFill>
          <a:blip r:embed="rId1"/>
          <a:stretch/>
        </p:blipFill>
        <p:spPr>
          <a:xfrm>
            <a:off x="3071880" y="1785960"/>
            <a:ext cx="24001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Горизонтальный свиток 12"/>
          <p:cNvSpPr/>
          <p:nvPr/>
        </p:nvSpPr>
        <p:spPr>
          <a:xfrm>
            <a:off x="2714760" y="4500720"/>
            <a:ext cx="3786120" cy="1143000"/>
          </a:xfrm>
          <a:prstGeom prst="horizontalScroll">
            <a:avLst>
              <a:gd name="adj" fmla="val 1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Горизонтальный свиток 11"/>
          <p:cNvSpPr/>
          <p:nvPr/>
        </p:nvSpPr>
        <p:spPr>
          <a:xfrm>
            <a:off x="5715000" y="2643120"/>
            <a:ext cx="3000240" cy="1643040"/>
          </a:xfrm>
          <a:prstGeom prst="horizontalScroll">
            <a:avLst>
              <a:gd name="adj" fmla="val 1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Горизонтальный свиток 10"/>
          <p:cNvSpPr/>
          <p:nvPr/>
        </p:nvSpPr>
        <p:spPr>
          <a:xfrm>
            <a:off x="500040" y="2500200"/>
            <a:ext cx="2928960" cy="1714680"/>
          </a:xfrm>
          <a:prstGeom prst="horizontalScroll">
            <a:avLst>
              <a:gd name="adj" fmla="val 12500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78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3234B-70FB-4038-8E93-76992E23B793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9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63462-FE79-4723-8E1B-737D988337BB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80" name="Прямоугольник 5" descr=""/>
          <p:cNvPicPr/>
          <p:nvPr/>
        </p:nvPicPr>
        <p:blipFill>
          <a:blip r:embed="rId1"/>
          <a:stretch/>
        </p:blipFill>
        <p:spPr>
          <a:xfrm>
            <a:off x="1481040" y="579600"/>
            <a:ext cx="6529320" cy="1188720"/>
          </a:xfrm>
          <a:prstGeom prst="rect">
            <a:avLst/>
          </a:prstGeom>
          <a:ln w="0">
            <a:noFill/>
          </a:ln>
        </p:spPr>
      </p:pic>
      <p:pic>
        <p:nvPicPr>
          <p:cNvPr id="81" name="Прямоугольник 6" descr=""/>
          <p:cNvPicPr/>
          <p:nvPr/>
        </p:nvPicPr>
        <p:blipFill>
          <a:blip r:embed="rId2"/>
          <a:stretch/>
        </p:blipFill>
        <p:spPr>
          <a:xfrm>
            <a:off x="706320" y="2498760"/>
            <a:ext cx="2549520" cy="1512720"/>
          </a:xfrm>
          <a:prstGeom prst="rect">
            <a:avLst/>
          </a:prstGeom>
          <a:ln w="0">
            <a:noFill/>
          </a:ln>
        </p:spPr>
      </p:pic>
      <p:pic>
        <p:nvPicPr>
          <p:cNvPr id="82" name="Прямоугольник 7" descr=""/>
          <p:cNvPicPr/>
          <p:nvPr/>
        </p:nvPicPr>
        <p:blipFill>
          <a:blip r:embed="rId3"/>
          <a:stretch/>
        </p:blipFill>
        <p:spPr>
          <a:xfrm>
            <a:off x="2590920" y="4572000"/>
            <a:ext cx="3981240" cy="90180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8" descr=""/>
          <p:cNvPicPr/>
          <p:nvPr/>
        </p:nvPicPr>
        <p:blipFill>
          <a:blip r:embed="rId4"/>
          <a:stretch/>
        </p:blipFill>
        <p:spPr>
          <a:xfrm>
            <a:off x="5877000" y="2571840"/>
            <a:ext cx="2786040" cy="1512720"/>
          </a:xfrm>
          <a:prstGeom prst="rect">
            <a:avLst/>
          </a:prstGeom>
          <a:ln w="0">
            <a:noFill/>
          </a:ln>
        </p:spPr>
      </p:pic>
      <p:sp>
        <p:nvSpPr>
          <p:cNvPr id="84" name="Стрелка вниз 13"/>
          <p:cNvSpPr/>
          <p:nvPr/>
        </p:nvSpPr>
        <p:spPr>
          <a:xfrm>
            <a:off x="2214720" y="171468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Стрелка вниз 14"/>
          <p:cNvSpPr/>
          <p:nvPr/>
        </p:nvSpPr>
        <p:spPr>
          <a:xfrm>
            <a:off x="6500880" y="1643040"/>
            <a:ext cx="500040" cy="857160"/>
          </a:xfrm>
          <a:prstGeom prst="downArrow">
            <a:avLst>
              <a:gd name="adj1" fmla="val 50000"/>
              <a:gd name="adj2" fmla="val 49997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Стрелка вниз 15"/>
          <p:cNvSpPr/>
          <p:nvPr/>
        </p:nvSpPr>
        <p:spPr>
          <a:xfrm>
            <a:off x="4286160" y="1714680"/>
            <a:ext cx="642960" cy="2643120"/>
          </a:xfrm>
          <a:prstGeom prst="downArrow">
            <a:avLst>
              <a:gd name="adj1" fmla="val 50000"/>
              <a:gd name="adj2" fmla="val 49996"/>
            </a:avLst>
          </a:pr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7" name="Выгнутая влево стрелка 17"/>
          <p:cNvSpPr/>
          <p:nvPr/>
        </p:nvSpPr>
        <p:spPr>
          <a:xfrm>
            <a:off x="1071720" y="4071960"/>
            <a:ext cx="1143000" cy="128592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14200 h 1285920"/>
              <a:gd name="textAreaBottom" fmla="*/ 9288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200" stAng="-5400000" swAng="-5400000"/>
                <a:lnTo>
                  <a:pt x="0" y="12000"/>
                </a:lnTo>
                <a:arcTo wR="21600" hR="7200" stAng="10800000" swAng="-3134325"/>
                <a:lnTo>
                  <a:pt x="16200" y="21371"/>
                </a:lnTo>
                <a:lnTo>
                  <a:pt x="21600" y="16800"/>
                </a:lnTo>
                <a:lnTo>
                  <a:pt x="16200" y="11771"/>
                </a:lnTo>
                <a:lnTo>
                  <a:pt x="16200" y="14171"/>
                </a:lnTo>
                <a:arcTo wR="21600" hR="7200" stAng="7665675" swAng="2731043"/>
                <a:lnTo>
                  <a:pt x="1235" y="9600"/>
                </a:lnTo>
                <a:arcTo wR="21600" hR="7200" stAng="-10396718" swAng="4996718"/>
                <a:close/>
              </a:path>
              <a:path fill="darkenLess" w="21600" h="21600">
                <a:moveTo>
                  <a:pt x="21600" y="0"/>
                </a:moveTo>
                <a:arcTo wR="21600" hR="7200" stAng="-5400000" swAng="-5400000"/>
                <a:lnTo>
                  <a:pt x="0" y="7200"/>
                </a:lnTo>
                <a:arcTo wR="21600" hR="7200" stAng="10800000" swAng="-403282"/>
                <a:lnTo>
                  <a:pt x="1235" y="9600"/>
                </a:lnTo>
                <a:arcTo wR="21600" hR="7200" stAng="-10396718" swAng="4996718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Выгнутая вправо стрелка 18"/>
          <p:cNvSpPr/>
          <p:nvPr/>
        </p:nvSpPr>
        <p:spPr>
          <a:xfrm>
            <a:off x="7072200" y="4143240"/>
            <a:ext cx="1143000" cy="1357560"/>
          </a:xfrm>
          <a:custGeom>
            <a:avLst/>
            <a:gdLst>
              <a:gd name="textAreaLeft" fmla="*/ 153000 w 1143000"/>
              <a:gd name="textAreaRight" fmla="*/ 990000 w 1143000"/>
              <a:gd name="textAreaTop" fmla="*/ 232200 h 1357560"/>
              <a:gd name="textAreaBottom" fmla="*/ 982440 h 135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390" stAng="-5400000" swAng="5400000"/>
                <a:lnTo>
                  <a:pt x="21600" y="11937"/>
                </a:lnTo>
                <a:arcTo wR="21600" hR="7390" stAng="0" swAng="3177417"/>
                <a:lnTo>
                  <a:pt x="5400" y="21365"/>
                </a:lnTo>
                <a:lnTo>
                  <a:pt x="0" y="17053"/>
                </a:lnTo>
                <a:lnTo>
                  <a:pt x="5400" y="12270"/>
                </a:lnTo>
                <a:lnTo>
                  <a:pt x="5400" y="14544"/>
                </a:lnTo>
                <a:arcTo wR="21600" hR="7390" stAng="3177417" swAng="-2798673"/>
                <a:lnTo>
                  <a:pt x="20552" y="9663"/>
                </a:lnTo>
                <a:arcTo wR="21600" hR="7390" stAng="-378745" swAng="-5021255"/>
                <a:close/>
              </a:path>
              <a:path fill="darkenLess" w="21600" h="21600">
                <a:moveTo>
                  <a:pt x="0" y="0"/>
                </a:moveTo>
                <a:arcTo wR="21600" hR="7390" stAng="-5400000" swAng="5400000"/>
                <a:lnTo>
                  <a:pt x="21600" y="11937"/>
                </a:lnTo>
                <a:arcTo wR="21600" hR="7390" stAng="0" swAng="-378745"/>
                <a:lnTo>
                  <a:pt x="20552" y="9663"/>
                </a:lnTo>
                <a:arcTo wR="21600" hR="7390" stAng="-378745" swAng="-5021255"/>
                <a:close/>
              </a:path>
            </a:pathLst>
          </a:custGeom>
          <a:solidFill>
            <a:srgbClr val="7030a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5712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00"/>
                </a:solidFill>
                <a:latin typeface="Calibri"/>
              </a:rPr>
              <a:t>Ресурсы для составления презентации</a:t>
            </a:r>
            <a:endParaRPr b="0" lang="en-US" sz="44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alibri"/>
              </a:rPr>
              <a:t>http://ru.wikipedia.org/wiki/%D0%9F%D1%83%D1%88%D0%BA%D0%B8%D0%BD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alibri"/>
              </a:rPr>
              <a:t>http://www.rulex.ru/01020610.htm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alibri"/>
              </a:rPr>
              <a:t>http://ros-istor.ru/node/292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Calibri"/>
              </a:rPr>
              <a:t>http://www.hrono.ru/biograf/bio_sh/shuyski_vi4.php</a:t>
            </a: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00000"/>
              </a:solidFill>
              <a:latin typeface="Calibri"/>
            </a:endParaRPr>
          </a:p>
        </p:txBody>
      </p:sp>
      <p:sp>
        <p:nvSpPr>
          <p:cNvPr id="91" name="Дата 3"/>
          <p:cNvSpPr/>
          <p:nvPr/>
        </p:nvSpPr>
        <p:spPr>
          <a:xfrm>
            <a:off x="50004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F179-F8A9-42C8-9628-AC6F3919F6B1}" type="datetime">
              <a:rPr b="0" lang="ru-RU" sz="1200" spc="-1" strike="noStrike">
                <a:solidFill>
                  <a:srgbClr val="ac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Номер слайда 4"/>
          <p:cNvSpPr/>
          <p:nvPr/>
        </p:nvSpPr>
        <p:spPr>
          <a:xfrm>
            <a:off x="6858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C968E-D427-481C-B8DA-A1C4BBF5E7FF}" type="slidenum">
              <a:rPr b="0" lang="ru-RU" sz="1200" spc="-1" strike="noStrike">
                <a:solidFill>
                  <a:srgbClr val="ac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nser Client</cp:lastModifiedBy>
  <dcterms:modified xsi:type="dcterms:W3CDTF">2014-02-20T19:25:24Z</dcterms:modified>
  <cp:revision>15</cp:revision>
  <dc:subject/>
  <dc:title>Трагедия власти и трагедия совести в драме А.С.Пушкина «Борис Годунов»  сквозь призму истории. </dc:title>
</cp:coreProperties>
</file>